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media/image19.wmf" ContentType="image/x-wmf"/>
  <Override PartName="/ppt/media/image1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2.wmf" ContentType="image/x-wmf"/>
  <Override PartName="/ppt/media/image3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F0F-1025-442F-8C7D-97F531EE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D0C-4F7F-41C0-B062-9F1E7D39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703-003C-4B4C-AF93-D4400FB1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650-BC84-447A-B06D-8E033445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A5A-FDC1-4B0C-BA60-0F54C72E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6B6-1435-42D5-B611-403227A8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6C9-BF2D-4FB1-9D66-DFF68D1E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CAB-9BD5-4329-A455-A657C6E7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1EA-34CC-4D7A-A297-DC7C7EC7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5A5-3CA4-4F75-81FA-853BD43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C5D-915B-4458-AA45-AD003CA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912-7CC7-4416-A242-C5520F15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9A7A-F16D-49E6-881C-C8E92988A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hyperlink" Target="http://www.rossettiarchive.org/docs/1-1847.s244.raw.html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aSpace, Fedo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DuraClou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rny Sta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or, Community Strategy and Alli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P Meeting, July 8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munity-built Applic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rad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landora (Drupal-bas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TAL (vendor software from VT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ciD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d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king complex digital information “durable” is a very hard proble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xistence and meaning of content needs to be verifiable as technologies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history of the changes to the encoding and state of content must be reliably provi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meaningful context for any unit of content may be one of many and must be su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x resources will increasingly be dispersed across institutional  bound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Fedora abstractions provide a durability framework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 is “unitized” as information objects that combine data, metadata, policies, relationships and the history of the ob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x digital resources are formally defined graphs of related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ublic view of the content is presented as abstract  behavi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 services orientation of Fedora provides the basis for repository fede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03240" y="374760"/>
          <a:ext cx="7631280" cy="63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374760"/>
                    <a:ext cx="7631280" cy="63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ounded Rectangle 6"/>
          <p:cNvGrpSpPr/>
          <p:nvPr/>
        </p:nvGrpSpPr>
        <p:grpSpPr>
          <a:xfrm>
            <a:off x="847800" y="1432080"/>
            <a:ext cx="2395440" cy="4816440"/>
            <a:chOff x="847800" y="1432080"/>
            <a:chExt cx="2395440" cy="4816440"/>
          </a:xfrm>
        </p:grpSpPr>
        <p:pic>
          <p:nvPicPr>
            <p:cNvPr id="84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847800" y="1432080"/>
              <a:ext cx="2395440" cy="48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20600" y="1582560"/>
              <a:ext cx="2057400" cy="44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Rectangle 7"/>
          <p:cNvSpPr/>
          <p:nvPr/>
        </p:nvSpPr>
        <p:spPr>
          <a:xfrm>
            <a:off x="1116000" y="1954080"/>
            <a:ext cx="1866960" cy="41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400760" y="1539720"/>
            <a:ext cx="1219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Persist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116000" y="2438280"/>
            <a:ext cx="1866960" cy="41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S-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116000" y="2922480"/>
            <a:ext cx="1866960" cy="414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D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1116000" y="4235400"/>
            <a:ext cx="186696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1" name="Curved Connector 17"/>
          <p:cNvCxnSpPr>
            <a:stCxn id="88" idx="3"/>
          </p:cNvCxnSpPr>
          <p:nvPr/>
        </p:nvCxnSpPr>
        <p:spPr>
          <a:xfrm flipV="1">
            <a:off x="2982960" y="1625040"/>
            <a:ext cx="1451520" cy="10213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158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92" name="Picture 38" descr="rdf"/>
          <p:cNvPicPr/>
          <p:nvPr/>
        </p:nvPicPr>
        <p:blipFill>
          <a:blip r:embed="rId2"/>
          <a:stretch/>
        </p:blipFill>
        <p:spPr>
          <a:xfrm>
            <a:off x="4433760" y="1434960"/>
            <a:ext cx="895320" cy="381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1"/>
          <p:cNvSpPr/>
          <p:nvPr/>
        </p:nvSpPr>
        <p:spPr>
          <a:xfrm>
            <a:off x="1116000" y="4857840"/>
            <a:ext cx="186696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1116000" y="5479920"/>
            <a:ext cx="1866960" cy="41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ight Brace 25"/>
          <p:cNvSpPr/>
          <p:nvPr/>
        </p:nvSpPr>
        <p:spPr>
          <a:xfrm>
            <a:off x="3397320" y="1747800"/>
            <a:ext cx="552240" cy="2005200"/>
          </a:xfrm>
          <a:custGeom>
            <a:avLst/>
            <a:gdLst>
              <a:gd name="textAreaLeft" fmla="*/ 0 w 552240"/>
              <a:gd name="textAreaRight" fmla="*/ 199440 w 552240"/>
              <a:gd name="textAreaTop" fmla="*/ 14400 h 2005200"/>
              <a:gd name="textAreaBottom" fmla="*/ 1990800 h 200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8"/>
                  <a:pt x="10800" y="496"/>
                </a:cubicBezTo>
                <a:lnTo>
                  <a:pt x="10800" y="10304"/>
                </a:lnTo>
                <a:cubicBezTo>
                  <a:pt x="10800" y="10552"/>
                  <a:pt x="16200" y="10800"/>
                  <a:pt x="21600" y="10800"/>
                </a:cubicBezTo>
                <a:cubicBezTo>
                  <a:pt x="16200" y="10800"/>
                  <a:pt x="10800" y="11048"/>
                  <a:pt x="10800" y="11296"/>
                </a:cubicBezTo>
                <a:lnTo>
                  <a:pt x="10800" y="21104"/>
                </a:lnTo>
                <a:cubicBezTo>
                  <a:pt x="10800" y="2135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ight Brace 26"/>
          <p:cNvSpPr/>
          <p:nvPr/>
        </p:nvSpPr>
        <p:spPr>
          <a:xfrm>
            <a:off x="3397320" y="4098960"/>
            <a:ext cx="552240" cy="2003400"/>
          </a:xfrm>
          <a:custGeom>
            <a:avLst/>
            <a:gdLst>
              <a:gd name="textAreaLeft" fmla="*/ 0 w 552240"/>
              <a:gd name="textAreaRight" fmla="*/ 199440 w 552240"/>
              <a:gd name="textAreaTop" fmla="*/ 14040 h 2003400"/>
              <a:gd name="textAreaBottom" fmla="*/ 198936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8"/>
                  <a:pt x="10800" y="496"/>
                </a:cubicBezTo>
                <a:lnTo>
                  <a:pt x="10800" y="10304"/>
                </a:lnTo>
                <a:cubicBezTo>
                  <a:pt x="10800" y="10552"/>
                  <a:pt x="16200" y="10800"/>
                  <a:pt x="21600" y="10800"/>
                </a:cubicBezTo>
                <a:cubicBezTo>
                  <a:pt x="16200" y="10800"/>
                  <a:pt x="10800" y="11048"/>
                  <a:pt x="10800" y="11296"/>
                </a:cubicBezTo>
                <a:lnTo>
                  <a:pt x="10800" y="21104"/>
                </a:lnTo>
                <a:cubicBezTo>
                  <a:pt x="10800" y="2135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313160" y="2576520"/>
            <a:ext cx="32828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erved Datastr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299480" y="4886280"/>
            <a:ext cx="302976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stom Datastr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y type, any numb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990720" y="3049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5960"/>
                <a:tab algn="l" pos="5484960"/>
                <a:tab algn="l" pos="5942160"/>
                <a:tab algn="l" pos="6399360"/>
                <a:tab algn="l" pos="6856560"/>
                <a:tab algn="l" pos="731052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 data object is one unit of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116000" y="3406680"/>
            <a:ext cx="1866960" cy="414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86920"/>
            <a:ext cx="4608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Object Proper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994200" y="255276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Dat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 or      Service Definition     or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Service Deploy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994200" y="4424400"/>
            <a:ext cx="4978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”, “I”, or “D” (Active, Inactive, Deleted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038480" y="5021280"/>
            <a:ext cx="4996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ny string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994200" y="5667480"/>
            <a:ext cx="4995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ny string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994200" y="3795840"/>
            <a:ext cx="49957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2007-04-30T19:59:03.000Z” (UTC, ISO8601 format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976560" y="3173400"/>
            <a:ext cx="49960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2007-04-30T19:59:03.000Z” (UTC, ISO8601 format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994200" y="6289560"/>
            <a:ext cx="4995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ny string”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7620120" y="57913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8"/>
          <p:cNvGrpSpPr/>
          <p:nvPr/>
        </p:nvGrpSpPr>
        <p:grpSpPr>
          <a:xfrm>
            <a:off x="6553080" y="0"/>
            <a:ext cx="2590920" cy="1905120"/>
            <a:chOff x="6553080" y="0"/>
            <a:chExt cx="2590920" cy="1905120"/>
          </a:xfrm>
        </p:grpSpPr>
        <p:grpSp>
          <p:nvGrpSpPr>
            <p:cNvPr id="111" name="Group 26"/>
            <p:cNvGrpSpPr/>
            <p:nvPr/>
          </p:nvGrpSpPr>
          <p:grpSpPr>
            <a:xfrm>
              <a:off x="6752880" y="228600"/>
              <a:ext cx="2381040" cy="1386720"/>
              <a:chOff x="6752880" y="228600"/>
              <a:chExt cx="2381040" cy="1386720"/>
            </a:xfrm>
          </p:grpSpPr>
          <p:grpSp>
            <p:nvGrpSpPr>
              <p:cNvPr id="112" name="Group 23"/>
              <p:cNvGrpSpPr/>
              <p:nvPr/>
            </p:nvGrpSpPr>
            <p:grpSpPr>
              <a:xfrm>
                <a:off x="6752880" y="762120"/>
                <a:ext cx="2381040" cy="853200"/>
                <a:chOff x="6752880" y="762120"/>
                <a:chExt cx="2381040" cy="853200"/>
              </a:xfrm>
            </p:grpSpPr>
            <p:sp>
              <p:nvSpPr>
                <p:cNvPr id="113" name="AutoShape 2"/>
                <p:cNvSpPr/>
                <p:nvPr/>
              </p:nvSpPr>
              <p:spPr>
                <a:xfrm>
                  <a:off x="6752880" y="76212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33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2"/>
                <p:cNvSpPr/>
                <p:nvPr/>
              </p:nvSpPr>
              <p:spPr>
                <a:xfrm>
                  <a:off x="6752880" y="106668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2"/>
                <p:cNvSpPr/>
                <p:nvPr/>
              </p:nvSpPr>
              <p:spPr>
                <a:xfrm>
                  <a:off x="6752880" y="137160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Box 20"/>
                <p:cNvSpPr/>
                <p:nvPr/>
              </p:nvSpPr>
              <p:spPr>
                <a:xfrm>
                  <a:off x="7525080" y="1066680"/>
                  <a:ext cx="1608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System generates va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Box 21"/>
                <p:cNvSpPr/>
                <p:nvPr/>
              </p:nvSpPr>
              <p:spPr>
                <a:xfrm>
                  <a:off x="7520760" y="1338840"/>
                  <a:ext cx="843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Either way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Box 22"/>
                <p:cNvSpPr/>
                <p:nvPr/>
              </p:nvSpPr>
              <p:spPr>
                <a:xfrm>
                  <a:off x="7523640" y="762120"/>
                  <a:ext cx="1483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lient provides va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TextBox 25"/>
              <p:cNvSpPr/>
              <p:nvPr/>
            </p:nvSpPr>
            <p:spPr>
              <a:xfrm>
                <a:off x="7171920" y="228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EGEN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Rectangle 27"/>
            <p:cNvSpPr/>
            <p:nvPr/>
          </p:nvSpPr>
          <p:spPr>
            <a:xfrm>
              <a:off x="6553080" y="0"/>
              <a:ext cx="2590920" cy="1905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Text Box 9"/>
          <p:cNvSpPr/>
          <p:nvPr/>
        </p:nvSpPr>
        <p:spPr>
          <a:xfrm>
            <a:off x="3886200" y="190512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namespace:n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Rounded Rectangle 30"/>
          <p:cNvGrpSpPr/>
          <p:nvPr/>
        </p:nvGrpSpPr>
        <p:grpSpPr>
          <a:xfrm>
            <a:off x="396720" y="268200"/>
            <a:ext cx="955800" cy="1176480"/>
            <a:chOff x="396720" y="268200"/>
            <a:chExt cx="955800" cy="1176480"/>
          </a:xfrm>
        </p:grpSpPr>
        <p:pic>
          <p:nvPicPr>
            <p:cNvPr id="123" name="Rounded Rectangle 30" descr=""/>
            <p:cNvPicPr/>
            <p:nvPr/>
          </p:nvPicPr>
          <p:blipFill>
            <a:blip r:embed="rId1"/>
            <a:stretch/>
          </p:blipFill>
          <p:spPr>
            <a:xfrm>
              <a:off x="396720" y="268200"/>
              <a:ext cx="955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8600" y="345960"/>
              <a:ext cx="75564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TextBox 31"/>
          <p:cNvSpPr/>
          <p:nvPr/>
        </p:nvSpPr>
        <p:spPr>
          <a:xfrm flipH="1">
            <a:off x="609480" y="304920"/>
            <a:ext cx="689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P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Elbow Connector 33"/>
          <p:cNvCxnSpPr>
            <a:endCxn id="127" idx="1"/>
          </p:cNvCxnSpPr>
          <p:nvPr/>
        </p:nvCxnSpPr>
        <p:spPr>
          <a:xfrm flipH="1" flipV="1" rot="10800000">
            <a:off x="456840" y="837000"/>
            <a:ext cx="62640" cy="5583960"/>
          </a:xfrm>
          <a:prstGeom prst="bentConnector3">
            <a:avLst>
              <a:gd name="adj1" fmla="val -372254"/>
            </a:avLst>
          </a:prstGeom>
          <a:ln w="9360">
            <a:solidFill>
              <a:srgbClr val="ffffff"/>
            </a:solidFill>
            <a:round/>
          </a:ln>
        </p:spPr>
      </p:cxnSp>
      <p:sp>
        <p:nvSpPr>
          <p:cNvPr id="128" name="Straight Connector 34"/>
          <p:cNvSpPr/>
          <p:nvPr/>
        </p:nvSpPr>
        <p:spPr>
          <a:xfrm flipV="1">
            <a:off x="228600" y="463248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traight Connector 35"/>
          <p:cNvSpPr/>
          <p:nvPr/>
        </p:nvSpPr>
        <p:spPr>
          <a:xfrm flipV="1">
            <a:off x="228600" y="396252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traight Connector 36"/>
          <p:cNvSpPr/>
          <p:nvPr/>
        </p:nvSpPr>
        <p:spPr>
          <a:xfrm flipV="1">
            <a:off x="228600" y="327672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traight Connector 37"/>
          <p:cNvSpPr/>
          <p:nvPr/>
        </p:nvSpPr>
        <p:spPr>
          <a:xfrm flipV="1">
            <a:off x="228600" y="266688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traight Connector 38"/>
          <p:cNvSpPr/>
          <p:nvPr/>
        </p:nvSpPr>
        <p:spPr>
          <a:xfrm flipV="1">
            <a:off x="228600" y="198108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traight Connector 39"/>
          <p:cNvSpPr/>
          <p:nvPr/>
        </p:nvSpPr>
        <p:spPr>
          <a:xfrm flipV="1">
            <a:off x="228600" y="516564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traight Connector 40"/>
          <p:cNvSpPr/>
          <p:nvPr/>
        </p:nvSpPr>
        <p:spPr>
          <a:xfrm flipV="1">
            <a:off x="228600" y="5791320"/>
            <a:ext cx="55728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520560" y="2476440"/>
            <a:ext cx="311004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Object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19120" y="434988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19120" y="4970520"/>
            <a:ext cx="3111480" cy="41580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La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519120" y="559260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onten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520560" y="3098880"/>
            <a:ext cx="3110040" cy="41436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reated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520560" y="3719520"/>
            <a:ext cx="3110040" cy="41580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Last Modified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19120" y="621504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Owner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533520" y="1800360"/>
            <a:ext cx="3111480" cy="415800"/>
          </a:xfrm>
          <a:prstGeom prst="roundRect">
            <a:avLst>
              <a:gd name="adj" fmla="val 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P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28600" y="2022480"/>
            <a:ext cx="2590920" cy="58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93960" y="2174760"/>
            <a:ext cx="93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Manage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068560" y="1066680"/>
            <a:ext cx="1189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048120" y="19414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dora stores and manages the content bytestream.   Content located via internal I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048120" y="30844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dora stores a reference (URL) to the content and mediates access to the conten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048120" y="43084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dora stores a reference (URL) to the cont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t will not mediate access to con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048120" y="546084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dora stores a name-spaced block of XML content within the Fedora digital object XML wrapper fi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04920" y="48528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atastreams hold or represent the cont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28600" y="3165480"/>
            <a:ext cx="2590920" cy="58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991800" y="3317760"/>
            <a:ext cx="90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228600" y="4384800"/>
            <a:ext cx="2590920" cy="583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24520" y="4537080"/>
            <a:ext cx="2027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directe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28600" y="5537160"/>
            <a:ext cx="2590920" cy="58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992160" y="5689440"/>
            <a:ext cx="107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556236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Datastream Proper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558720" y="538632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649440" y="547524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765000" y="5605560"/>
            <a:ext cx="3111840" cy="414360"/>
          </a:xfrm>
          <a:prstGeom prst="roundRect">
            <a:avLst>
              <a:gd name="adj" fmla="val 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165560" y="301932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ny XML “NCName” unique within the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178160" y="3510000"/>
            <a:ext cx="4978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X”, “M”, “E”, or “R” (Inline XML, Managed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Externally Referenced, or Redirected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178160" y="4273560"/>
            <a:ext cx="4978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A”, “I”, or “D” (Active, Inactive, Deleted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178160" y="483696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true” or “fals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165560" y="5614920"/>
            <a:ext cx="4978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mincho"/>
              </a:rPr>
              <a:t>1 or mo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Group 14"/>
          <p:cNvGrpSpPr/>
          <p:nvPr/>
        </p:nvGrpSpPr>
        <p:grpSpPr>
          <a:xfrm>
            <a:off x="6553080" y="76320"/>
            <a:ext cx="2590920" cy="1904760"/>
            <a:chOff x="6553080" y="76320"/>
            <a:chExt cx="2590920" cy="1904760"/>
          </a:xfrm>
        </p:grpSpPr>
        <p:grpSp>
          <p:nvGrpSpPr>
            <p:cNvPr id="166" name="Group 26"/>
            <p:cNvGrpSpPr/>
            <p:nvPr/>
          </p:nvGrpSpPr>
          <p:grpSpPr>
            <a:xfrm>
              <a:off x="6752880" y="304920"/>
              <a:ext cx="2381040" cy="1386360"/>
              <a:chOff x="6752880" y="304920"/>
              <a:chExt cx="2381040" cy="1386360"/>
            </a:xfrm>
          </p:grpSpPr>
          <p:grpSp>
            <p:nvGrpSpPr>
              <p:cNvPr id="167" name="Group 23"/>
              <p:cNvGrpSpPr/>
              <p:nvPr/>
            </p:nvGrpSpPr>
            <p:grpSpPr>
              <a:xfrm>
                <a:off x="6752880" y="838080"/>
                <a:ext cx="2381040" cy="853200"/>
                <a:chOff x="6752880" y="838080"/>
                <a:chExt cx="2381040" cy="853200"/>
              </a:xfrm>
            </p:grpSpPr>
            <p:sp>
              <p:nvSpPr>
                <p:cNvPr id="168" name="AutoShape 2"/>
                <p:cNvSpPr/>
                <p:nvPr/>
              </p:nvSpPr>
              <p:spPr>
                <a:xfrm>
                  <a:off x="6752880" y="83808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33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AutoShape 2"/>
                <p:cNvSpPr/>
                <p:nvPr/>
              </p:nvSpPr>
              <p:spPr>
                <a:xfrm>
                  <a:off x="6752880" y="114264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AutoShape 2"/>
                <p:cNvSpPr/>
                <p:nvPr/>
              </p:nvSpPr>
              <p:spPr>
                <a:xfrm>
                  <a:off x="6752880" y="1447560"/>
                  <a:ext cx="685800" cy="228600"/>
                </a:xfrm>
                <a:prstGeom prst="roundRect">
                  <a:avLst>
                    <a:gd name="adj" fmla="val 34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tabLst>
                      <a:tab algn="l" pos="0"/>
                      <a:tab algn="l" pos="655560"/>
                      <a:tab algn="l" pos="1312920"/>
                      <a:tab algn="l" pos="1968480"/>
                      <a:tab algn="l" pos="262584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TextBox 22"/>
                <p:cNvSpPr/>
                <p:nvPr/>
              </p:nvSpPr>
              <p:spPr>
                <a:xfrm>
                  <a:off x="7525080" y="1142640"/>
                  <a:ext cx="1608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System generates va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TextBox 23"/>
                <p:cNvSpPr/>
                <p:nvPr/>
              </p:nvSpPr>
              <p:spPr>
                <a:xfrm>
                  <a:off x="7520760" y="1414800"/>
                  <a:ext cx="843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Either way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TextBox 24"/>
                <p:cNvSpPr/>
                <p:nvPr/>
              </p:nvSpPr>
              <p:spPr>
                <a:xfrm>
                  <a:off x="7523640" y="838080"/>
                  <a:ext cx="1483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lient provides va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TextBox 18"/>
              <p:cNvSpPr/>
              <p:nvPr/>
            </p:nvSpPr>
            <p:spPr>
              <a:xfrm>
                <a:off x="7171920" y="3049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EGEN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Rectangle 16"/>
            <p:cNvSpPr/>
            <p:nvPr/>
          </p:nvSpPr>
          <p:spPr>
            <a:xfrm>
              <a:off x="6553080" y="76320"/>
              <a:ext cx="2590920" cy="1904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Rectangle 25"/>
          <p:cNvSpPr/>
          <p:nvPr/>
        </p:nvSpPr>
        <p:spPr>
          <a:xfrm>
            <a:off x="533520" y="1771560"/>
            <a:ext cx="2286000" cy="56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str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Elbow Connector 32"/>
          <p:cNvCxnSpPr>
            <a:stCxn id="176" idx="1"/>
            <a:endCxn id="158" idx="1"/>
          </p:cNvCxnSpPr>
          <p:nvPr/>
        </p:nvCxnSpPr>
        <p:spPr>
          <a:xfrm flipH="1" flipV="1" rot="10800000">
            <a:off x="533160" y="2053080"/>
            <a:ext cx="116640" cy="3629880"/>
          </a:xfrm>
          <a:prstGeom prst="bentConnector3">
            <a:avLst>
              <a:gd name="adj1" fmla="val -198142"/>
            </a:avLst>
          </a:prstGeom>
          <a:ln w="9360">
            <a:solidFill>
              <a:srgbClr val="ffffff"/>
            </a:solidFill>
            <a:round/>
          </a:ln>
        </p:spPr>
      </p:cxnSp>
      <p:sp>
        <p:nvSpPr>
          <p:cNvPr id="178" name="Straight Connector 37"/>
          <p:cNvSpPr/>
          <p:nvPr/>
        </p:nvSpPr>
        <p:spPr>
          <a:xfrm flipV="1">
            <a:off x="304920" y="4989600"/>
            <a:ext cx="55692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38"/>
          <p:cNvSpPr/>
          <p:nvPr/>
        </p:nvSpPr>
        <p:spPr>
          <a:xfrm flipV="1">
            <a:off x="304920" y="4395960"/>
            <a:ext cx="55692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39"/>
          <p:cNvSpPr/>
          <p:nvPr/>
        </p:nvSpPr>
        <p:spPr>
          <a:xfrm flipV="1">
            <a:off x="304920" y="3770280"/>
            <a:ext cx="55692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traight Connector 40"/>
          <p:cNvSpPr/>
          <p:nvPr/>
        </p:nvSpPr>
        <p:spPr>
          <a:xfrm flipV="1">
            <a:off x="304920" y="3176640"/>
            <a:ext cx="556920" cy="1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33520" y="294804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  <a:ea typeface="msmincho"/>
              </a:rPr>
              <a:t>Datastream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546120" y="355428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557280" y="417672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ontrol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557280" y="4781520"/>
            <a:ext cx="3111480" cy="414360"/>
          </a:xfrm>
          <a:prstGeom prst="roundRect">
            <a:avLst>
              <a:gd name="adj" fmla="val 347"/>
            </a:avLst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Versio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lationships Among Objec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cribes adjacency relationships among objects, among units of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DF data of the form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D – typeOfRelationship – relatedObjectP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used to assemble aggregations of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uild graphs of relationships to feed into user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ptional Object Behavio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objects can have different views or transform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ts of abstract behaviors that different kinds of objects can subscribe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rresponding sets of services that specific objects can exec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usiness logic is hidden behind an 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uraSpace, Inc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bined Fedora Commons, Inc. and DSpace Found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01-(c)3 private, non-profit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-year project funded by Moore Foundation to become self-sust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on-driven, products evolve to follow community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ving towards community-based software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2060640" y="803160"/>
          <a:ext cx="6931080" cy="526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803160"/>
                    <a:ext cx="6931080" cy="52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Box 4"/>
          <p:cNvSpPr/>
          <p:nvPr/>
        </p:nvSpPr>
        <p:spPr>
          <a:xfrm>
            <a:off x="85320" y="1284120"/>
            <a:ext cx="17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89280" y="4495680"/>
            <a:ext cx="26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093680" y="858960"/>
          <a:ext cx="713592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858960"/>
                    <a:ext cx="713592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tent Mode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e classes of data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ressed as Cmode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model object defines the number and types of data streams for objects of tha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model object binds to service objects to enable appropriate behaviors to be inherited by data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1905120" y="990720"/>
            <a:ext cx="3352680" cy="21333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5257800" y="609480"/>
            <a:ext cx="2197080" cy="1838520"/>
            <a:chOff x="5257800" y="609480"/>
            <a:chExt cx="2197080" cy="1838520"/>
          </a:xfrm>
        </p:grpSpPr>
        <p:sp>
          <p:nvSpPr>
            <p:cNvPr id="200" name="Rectangle 4"/>
            <p:cNvSpPr/>
            <p:nvPr/>
          </p:nvSpPr>
          <p:spPr>
            <a:xfrm>
              <a:off x="5280120" y="2100240"/>
              <a:ext cx="2152440" cy="347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>
              <a:off x="5280120" y="1754280"/>
              <a:ext cx="2152440" cy="345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5280120" y="652320"/>
              <a:ext cx="2152440" cy="343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5404320" y="693720"/>
              <a:ext cx="166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ersistent ID (PID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5519520" y="1881000"/>
              <a:ext cx="1614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Service Defini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5280120" y="1028520"/>
              <a:ext cx="2152440" cy="378000"/>
            </a:xfrm>
            <a:prstGeom prst="rect">
              <a:avLst/>
            </a:pr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5648040" y="108900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6351840" y="1089000"/>
              <a:ext cx="82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5280120" y="1406520"/>
              <a:ext cx="2152440" cy="347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692680" y="1449360"/>
              <a:ext cx="1455840" cy="122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tastream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5280120" y="1019160"/>
              <a:ext cx="2143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5280120" y="1380960"/>
              <a:ext cx="21430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5280120" y="1746360"/>
              <a:ext cx="214308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7"/>
            <p:cNvSpPr/>
            <p:nvPr/>
          </p:nvSpPr>
          <p:spPr>
            <a:xfrm>
              <a:off x="5257800" y="609480"/>
              <a:ext cx="2197080" cy="18176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Rectangle 18"/>
          <p:cNvSpPr/>
          <p:nvPr/>
        </p:nvSpPr>
        <p:spPr>
          <a:xfrm>
            <a:off x="6280200" y="2773440"/>
            <a:ext cx="2187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1454760" y="1447920"/>
            <a:ext cx="1614600" cy="274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model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3200400" y="2438280"/>
            <a:ext cx="2057400" cy="16002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Group 21"/>
          <p:cNvGrpSpPr/>
          <p:nvPr/>
        </p:nvGrpSpPr>
        <p:grpSpPr>
          <a:xfrm>
            <a:off x="5270400" y="3809880"/>
            <a:ext cx="2197080" cy="1817640"/>
            <a:chOff x="5270400" y="3809880"/>
            <a:chExt cx="2197080" cy="1817640"/>
          </a:xfrm>
        </p:grpSpPr>
        <p:sp>
          <p:nvSpPr>
            <p:cNvPr id="218" name="Rectangle 22"/>
            <p:cNvSpPr/>
            <p:nvPr/>
          </p:nvSpPr>
          <p:spPr>
            <a:xfrm>
              <a:off x="5292720" y="5257800"/>
              <a:ext cx="2152440" cy="347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23"/>
            <p:cNvSpPr/>
            <p:nvPr/>
          </p:nvSpPr>
          <p:spPr>
            <a:xfrm>
              <a:off x="5292720" y="4911480"/>
              <a:ext cx="2152440" cy="346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5292720" y="3809880"/>
              <a:ext cx="215244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25"/>
            <p:cNvSpPr/>
            <p:nvPr/>
          </p:nvSpPr>
          <p:spPr>
            <a:xfrm>
              <a:off x="5416920" y="3851280"/>
              <a:ext cx="166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ersistent ID (PID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5616360" y="5038560"/>
              <a:ext cx="1570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Service Binding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Metadata (WSDL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27"/>
            <p:cNvSpPr/>
            <p:nvPr/>
          </p:nvSpPr>
          <p:spPr>
            <a:xfrm>
              <a:off x="5292720" y="4186080"/>
              <a:ext cx="2152440" cy="378000"/>
            </a:xfrm>
            <a:prstGeom prst="rect">
              <a:avLst/>
            </a:pr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28"/>
            <p:cNvSpPr/>
            <p:nvPr/>
          </p:nvSpPr>
          <p:spPr>
            <a:xfrm>
              <a:off x="5660640" y="424656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29"/>
            <p:cNvSpPr/>
            <p:nvPr/>
          </p:nvSpPr>
          <p:spPr>
            <a:xfrm>
              <a:off x="6364440" y="4246560"/>
              <a:ext cx="82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30"/>
            <p:cNvSpPr/>
            <p:nvPr/>
          </p:nvSpPr>
          <p:spPr>
            <a:xfrm>
              <a:off x="5292720" y="4564080"/>
              <a:ext cx="2152440" cy="347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31"/>
            <p:cNvSpPr/>
            <p:nvPr/>
          </p:nvSpPr>
          <p:spPr>
            <a:xfrm>
              <a:off x="5848920" y="4636800"/>
              <a:ext cx="114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tastream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32"/>
            <p:cNvSpPr/>
            <p:nvPr/>
          </p:nvSpPr>
          <p:spPr>
            <a:xfrm>
              <a:off x="5292720" y="4176720"/>
              <a:ext cx="2143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33"/>
            <p:cNvSpPr/>
            <p:nvPr/>
          </p:nvSpPr>
          <p:spPr>
            <a:xfrm>
              <a:off x="5292720" y="4538520"/>
              <a:ext cx="214308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34"/>
            <p:cNvSpPr/>
            <p:nvPr/>
          </p:nvSpPr>
          <p:spPr>
            <a:xfrm>
              <a:off x="5292720" y="4903560"/>
              <a:ext cx="214308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35"/>
            <p:cNvSpPr/>
            <p:nvPr/>
          </p:nvSpPr>
          <p:spPr>
            <a:xfrm>
              <a:off x="5270400" y="3809880"/>
              <a:ext cx="2197080" cy="18176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Line 36"/>
          <p:cNvSpPr/>
          <p:nvPr/>
        </p:nvSpPr>
        <p:spPr>
          <a:xfrm flipV="1">
            <a:off x="6324480" y="2438280"/>
            <a:ext cx="0" cy="1371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Oval 37"/>
          <p:cNvSpPr/>
          <p:nvPr/>
        </p:nvSpPr>
        <p:spPr>
          <a:xfrm>
            <a:off x="7772400" y="4114800"/>
            <a:ext cx="12193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AutoShape 38"/>
          <p:cNvCxnSpPr>
            <a:endCxn id="233" idx="4"/>
          </p:cNvCxnSpPr>
          <p:nvPr/>
        </p:nvCxnSpPr>
        <p:spPr>
          <a:xfrm flipV="1">
            <a:off x="7543800" y="4723920"/>
            <a:ext cx="838800" cy="534240"/>
          </a:xfrm>
          <a:prstGeom prst="curvedConnector2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35" name="Text Box 39"/>
          <p:cNvSpPr/>
          <p:nvPr/>
        </p:nvSpPr>
        <p:spPr>
          <a:xfrm>
            <a:off x="6482520" y="30481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 con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0"/>
          <p:cNvSpPr/>
          <p:nvPr/>
        </p:nvSpPr>
        <p:spPr>
          <a:xfrm rot="19647600">
            <a:off x="3337200" y="897840"/>
            <a:ext cx="1541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cri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1"/>
          <p:cNvSpPr/>
          <p:nvPr/>
        </p:nvSpPr>
        <p:spPr>
          <a:xfrm rot="2269800">
            <a:off x="3123360" y="34286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on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3502080" y="48322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Group 43"/>
          <p:cNvGrpSpPr/>
          <p:nvPr/>
        </p:nvGrpSpPr>
        <p:grpSpPr>
          <a:xfrm>
            <a:off x="1079640" y="1828800"/>
            <a:ext cx="2197080" cy="1838160"/>
            <a:chOff x="1079640" y="1828800"/>
            <a:chExt cx="2197080" cy="1838160"/>
          </a:xfrm>
        </p:grpSpPr>
        <p:sp>
          <p:nvSpPr>
            <p:cNvPr id="240" name="Rectangle 44"/>
            <p:cNvSpPr/>
            <p:nvPr/>
          </p:nvSpPr>
          <p:spPr>
            <a:xfrm>
              <a:off x="1101960" y="3319560"/>
              <a:ext cx="2152440" cy="347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45"/>
            <p:cNvSpPr/>
            <p:nvPr/>
          </p:nvSpPr>
          <p:spPr>
            <a:xfrm>
              <a:off x="1101960" y="2973240"/>
              <a:ext cx="2152440" cy="346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46"/>
            <p:cNvSpPr/>
            <p:nvPr/>
          </p:nvSpPr>
          <p:spPr>
            <a:xfrm>
              <a:off x="1101960" y="1871640"/>
              <a:ext cx="2152440" cy="343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47"/>
            <p:cNvSpPr/>
            <p:nvPr/>
          </p:nvSpPr>
          <p:spPr>
            <a:xfrm>
              <a:off x="1225800" y="1913040"/>
              <a:ext cx="166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ersistent ID (PID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48"/>
            <p:cNvSpPr/>
            <p:nvPr/>
          </p:nvSpPr>
          <p:spPr>
            <a:xfrm>
              <a:off x="1101960" y="2247840"/>
              <a:ext cx="2152440" cy="37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49"/>
            <p:cNvSpPr/>
            <p:nvPr/>
          </p:nvSpPr>
          <p:spPr>
            <a:xfrm>
              <a:off x="1527840" y="2309040"/>
              <a:ext cx="83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DF 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50"/>
            <p:cNvSpPr/>
            <p:nvPr/>
          </p:nvSpPr>
          <p:spPr>
            <a:xfrm>
              <a:off x="1101960" y="2625840"/>
              <a:ext cx="2152440" cy="347400"/>
            </a:xfrm>
            <a:prstGeom prst="rect">
              <a:avLst/>
            </a:pr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buClr>
                  <a:srgbClr val="3333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51"/>
            <p:cNvSpPr/>
            <p:nvPr/>
          </p:nvSpPr>
          <p:spPr>
            <a:xfrm>
              <a:off x="1447920" y="2971800"/>
              <a:ext cx="1455840" cy="122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tastream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52"/>
            <p:cNvSpPr/>
            <p:nvPr/>
          </p:nvSpPr>
          <p:spPr>
            <a:xfrm>
              <a:off x="1101960" y="2238480"/>
              <a:ext cx="2143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3"/>
            <p:cNvSpPr/>
            <p:nvPr/>
          </p:nvSpPr>
          <p:spPr>
            <a:xfrm>
              <a:off x="1101960" y="2600280"/>
              <a:ext cx="21430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4"/>
            <p:cNvSpPr/>
            <p:nvPr/>
          </p:nvSpPr>
          <p:spPr>
            <a:xfrm>
              <a:off x="1101960" y="2965320"/>
              <a:ext cx="214308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55"/>
            <p:cNvSpPr/>
            <p:nvPr/>
          </p:nvSpPr>
          <p:spPr>
            <a:xfrm>
              <a:off x="1079640" y="1828800"/>
              <a:ext cx="2197080" cy="18176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1465200" y="2666880"/>
              <a:ext cx="156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 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Rectangle 58"/>
          <p:cNvSpPr/>
          <p:nvPr/>
        </p:nvSpPr>
        <p:spPr>
          <a:xfrm>
            <a:off x="2916360" y="5334120"/>
            <a:ext cx="2006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9"/>
          <p:cNvSpPr/>
          <p:nvPr/>
        </p:nvSpPr>
        <p:spPr>
          <a:xfrm>
            <a:off x="4967640" y="5791320"/>
            <a:ext cx="289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Mechanism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0"/>
          <p:cNvSpPr/>
          <p:nvPr/>
        </p:nvSpPr>
        <p:spPr>
          <a:xfrm>
            <a:off x="5042880" y="228600"/>
            <a:ext cx="26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Objec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143000" y="4495680"/>
            <a:ext cx="1980720" cy="2133360"/>
            <a:chOff x="1143000" y="4495680"/>
            <a:chExt cx="1980720" cy="2133360"/>
          </a:xfrm>
        </p:grpSpPr>
        <p:sp>
          <p:nvSpPr>
            <p:cNvPr id="257" name="Rectangle 4"/>
            <p:cNvSpPr/>
            <p:nvPr/>
          </p:nvSpPr>
          <p:spPr>
            <a:xfrm>
              <a:off x="1237680" y="6225480"/>
              <a:ext cx="1866600" cy="403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1237680" y="5824080"/>
              <a:ext cx="1866600" cy="401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1237680" y="4545360"/>
              <a:ext cx="1866600" cy="397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1350360" y="4593240"/>
              <a:ext cx="156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istent ID (PID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1237680" y="4981680"/>
              <a:ext cx="1866600" cy="438480"/>
            </a:xfrm>
            <a:prstGeom prst="rect">
              <a:avLst/>
            </a:pr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1389240" y="5051880"/>
              <a:ext cx="820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143000" y="5051880"/>
              <a:ext cx="1829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1237680" y="5420520"/>
              <a:ext cx="1866600" cy="403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1408680" y="5759280"/>
              <a:ext cx="1563840" cy="676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tastream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1237680" y="4970880"/>
              <a:ext cx="18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1237680" y="5391000"/>
              <a:ext cx="18586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1218240" y="4495680"/>
              <a:ext cx="1905480" cy="21092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Line 36"/>
          <p:cNvSpPr/>
          <p:nvPr/>
        </p:nvSpPr>
        <p:spPr>
          <a:xfrm flipH="1" flipV="1">
            <a:off x="2179440" y="3581280"/>
            <a:ext cx="45720" cy="9144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Box 82"/>
          <p:cNvSpPr/>
          <p:nvPr/>
        </p:nvSpPr>
        <p:spPr>
          <a:xfrm>
            <a:off x="380880" y="4038480"/>
            <a:ext cx="1676520" cy="368280"/>
          </a:xfrm>
          <a:prstGeom prst="rect">
            <a:avLst/>
          </a:prstGeom>
          <a:noFill/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Obj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"/>
          <p:cNvSpPr/>
          <p:nvPr/>
        </p:nvSpPr>
        <p:spPr>
          <a:xfrm>
            <a:off x="1066680" y="350532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ther component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 values used by th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etime stamp for earlier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4572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behavior call has the for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0" y="2286000"/>
            <a:ext cx="92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bject PID + SDef Name + Method Name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bjects Representing Aggreg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ng parent objects for complex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resenting explicit coll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resenting implicit coll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ng digital surrogates for physical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Object 2"/>
          <p:cNvGraphicFramePr/>
          <p:nvPr/>
        </p:nvGraphicFramePr>
        <p:xfrm>
          <a:off x="1143000" y="473040"/>
          <a:ext cx="701028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3040"/>
                    <a:ext cx="701028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3">
            <a:hlinkClick r:id="rId3"/>
          </p:cNvPr>
          <p:cNvSpPr/>
          <p:nvPr/>
        </p:nvSpPr>
        <p:spPr>
          <a:xfrm>
            <a:off x="6095880" y="2286000"/>
            <a:ext cx="32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8862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477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1"/>
          <p:cNvGrpSpPr/>
          <p:nvPr/>
        </p:nvGrpSpPr>
        <p:grpSpPr>
          <a:xfrm>
            <a:off x="644400" y="1828800"/>
            <a:ext cx="2597760" cy="2743200"/>
            <a:chOff x="644400" y="1828800"/>
            <a:chExt cx="2597760" cy="2743200"/>
          </a:xfrm>
        </p:grpSpPr>
        <p:grpSp>
          <p:nvGrpSpPr>
            <p:cNvPr id="282" name="Group 34"/>
            <p:cNvGrpSpPr/>
            <p:nvPr/>
          </p:nvGrpSpPr>
          <p:grpSpPr>
            <a:xfrm>
              <a:off x="644400" y="1930320"/>
              <a:ext cx="2408760" cy="2641680"/>
              <a:chOff x="644400" y="1930320"/>
              <a:chExt cx="2408760" cy="2641680"/>
            </a:xfrm>
          </p:grpSpPr>
          <p:sp>
            <p:nvSpPr>
              <p:cNvPr id="283" name="Text Box 4"/>
              <p:cNvSpPr/>
              <p:nvPr/>
            </p:nvSpPr>
            <p:spPr>
              <a:xfrm>
                <a:off x="644400" y="1930320"/>
                <a:ext cx="2408760" cy="47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4" name="Round Same Side Corner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520" y="2529720"/>
                <a:ext cx="2274120" cy="14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Rectangle 9"/>
              <p:cNvSpPr/>
              <p:nvPr/>
            </p:nvSpPr>
            <p:spPr>
              <a:xfrm>
                <a:off x="725040" y="2276280"/>
                <a:ext cx="561960" cy="303120"/>
              </a:xfrm>
              <a:prstGeom prst="rect">
                <a:avLst/>
              </a:prstGeom>
              <a:solidFill>
                <a:srgbClr val="f8f8f8"/>
              </a:solidFill>
              <a:ln w="25560">
                <a:solidFill>
                  <a:srgbClr val="b6b6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10"/>
              <p:cNvSpPr/>
              <p:nvPr/>
            </p:nvSpPr>
            <p:spPr>
              <a:xfrm>
                <a:off x="1287360" y="2276280"/>
                <a:ext cx="560160" cy="303120"/>
              </a:xfrm>
              <a:prstGeom prst="rect">
                <a:avLst/>
              </a:prstGeom>
              <a:solidFill>
                <a:srgbClr val="f8f8f8"/>
              </a:solidFill>
              <a:ln w="25560">
                <a:solidFill>
                  <a:srgbClr val="b6b6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11"/>
              <p:cNvSpPr/>
              <p:nvPr/>
            </p:nvSpPr>
            <p:spPr>
              <a:xfrm>
                <a:off x="1847880" y="2276280"/>
                <a:ext cx="561960" cy="303120"/>
              </a:xfrm>
              <a:prstGeom prst="rect">
                <a:avLst/>
              </a:prstGeom>
              <a:solidFill>
                <a:srgbClr val="f8f8f8"/>
              </a:solidFill>
              <a:ln w="25560">
                <a:solidFill>
                  <a:srgbClr val="b6b6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2397240" y="2276280"/>
                <a:ext cx="561960" cy="303120"/>
              </a:xfrm>
              <a:prstGeom prst="rect">
                <a:avLst/>
              </a:prstGeom>
              <a:solidFill>
                <a:srgbClr val="f8f8f8"/>
              </a:solidFill>
              <a:ln w="25560">
                <a:solidFill>
                  <a:srgbClr val="b6b6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13"/>
              <p:cNvSpPr/>
              <p:nvPr/>
            </p:nvSpPr>
            <p:spPr>
              <a:xfrm>
                <a:off x="844200" y="2797200"/>
                <a:ext cx="5223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4"/>
              <p:cNvSpPr/>
              <p:nvPr/>
            </p:nvSpPr>
            <p:spPr>
              <a:xfrm>
                <a:off x="844200" y="3056040"/>
                <a:ext cx="5223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5"/>
              <p:cNvSpPr/>
              <p:nvPr/>
            </p:nvSpPr>
            <p:spPr>
              <a:xfrm>
                <a:off x="1527120" y="2797200"/>
                <a:ext cx="5619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6"/>
              <p:cNvSpPr/>
              <p:nvPr/>
            </p:nvSpPr>
            <p:spPr>
              <a:xfrm>
                <a:off x="1527120" y="3056040"/>
                <a:ext cx="5619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7"/>
              <p:cNvSpPr/>
              <p:nvPr/>
            </p:nvSpPr>
            <p:spPr>
              <a:xfrm>
                <a:off x="2209680" y="2797200"/>
                <a:ext cx="5619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8"/>
              <p:cNvSpPr/>
              <p:nvPr/>
            </p:nvSpPr>
            <p:spPr>
              <a:xfrm>
                <a:off x="2209680" y="3056040"/>
                <a:ext cx="561960" cy="17280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Flowchart: Magnetic Disk 19"/>
              <p:cNvSpPr/>
              <p:nvPr/>
            </p:nvSpPr>
            <p:spPr>
              <a:xfrm>
                <a:off x="703080" y="4008600"/>
                <a:ext cx="682560" cy="563400"/>
              </a:xfrm>
              <a:prstGeom prst="flowChartMagneticDisk">
                <a:avLst/>
              </a:prstGeom>
              <a:solidFill>
                <a:srgbClr val="adadff"/>
              </a:solidFill>
              <a:ln w="25560">
                <a:solidFill>
                  <a:srgbClr val="7e7e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lowchart: Magnetic Disk 20"/>
              <p:cNvSpPr/>
              <p:nvPr/>
            </p:nvSpPr>
            <p:spPr>
              <a:xfrm>
                <a:off x="1506240" y="4008600"/>
                <a:ext cx="682560" cy="563400"/>
              </a:xfrm>
              <a:prstGeom prst="flowChartMagneticDisk">
                <a:avLst/>
              </a:prstGeom>
              <a:solidFill>
                <a:srgbClr val="adadff"/>
              </a:solidFill>
              <a:ln w="25560">
                <a:solidFill>
                  <a:srgbClr val="7e7e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lowchart: Magnetic Disk 21"/>
              <p:cNvSpPr/>
              <p:nvPr/>
            </p:nvSpPr>
            <p:spPr>
              <a:xfrm>
                <a:off x="2309760" y="4008600"/>
                <a:ext cx="682560" cy="563400"/>
              </a:xfrm>
              <a:prstGeom prst="flowChartMagneticDisk">
                <a:avLst/>
              </a:prstGeom>
              <a:solidFill>
                <a:srgbClr val="adadff"/>
              </a:solidFill>
              <a:ln w="25560">
                <a:solidFill>
                  <a:srgbClr val="7e7e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TextBox 3"/>
            <p:cNvSpPr/>
            <p:nvPr/>
          </p:nvSpPr>
          <p:spPr>
            <a:xfrm>
              <a:off x="658080" y="1828800"/>
              <a:ext cx="25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dora Repository Servi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848880" y="3484440"/>
              <a:ext cx="522000" cy="17280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1531800" y="3484440"/>
              <a:ext cx="561960" cy="17280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6"/>
            <p:cNvSpPr/>
            <p:nvPr/>
          </p:nvSpPr>
          <p:spPr>
            <a:xfrm>
              <a:off x="2214360" y="3484440"/>
              <a:ext cx="561960" cy="17280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Rounded Rectangle 22"/>
          <p:cNvSpPr/>
          <p:nvPr/>
        </p:nvSpPr>
        <p:spPr>
          <a:xfrm>
            <a:off x="5923080" y="19810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GSearch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ounded Rectangle 23"/>
          <p:cNvSpPr/>
          <p:nvPr/>
        </p:nvSpPr>
        <p:spPr>
          <a:xfrm>
            <a:off x="5923080" y="28954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A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ounded Rectangle 24"/>
          <p:cNvSpPr/>
          <p:nvPr/>
        </p:nvSpPr>
        <p:spPr>
          <a:xfrm>
            <a:off x="5923080" y="388620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ng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ounded Rectangle 25"/>
          <p:cNvSpPr/>
          <p:nvPr/>
        </p:nvSpPr>
        <p:spPr>
          <a:xfrm>
            <a:off x="3865680" y="28954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imp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JM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Shape 27"/>
          <p:cNvCxnSpPr/>
          <p:nvPr/>
        </p:nvCxnSpPr>
        <p:spPr>
          <a:xfrm flipV="1" rot="10800000">
            <a:off x="4398120" y="2246760"/>
            <a:ext cx="1524960" cy="64836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" name="Straight Arrow Connector 29"/>
          <p:cNvCxnSpPr/>
          <p:nvPr/>
        </p:nvCxnSpPr>
        <p:spPr>
          <a:xfrm flipV="1">
            <a:off x="4932360" y="3161520"/>
            <a:ext cx="991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8" name="Rectangle 5"/>
          <p:cNvSpPr/>
          <p:nvPr/>
        </p:nvSpPr>
        <p:spPr>
          <a:xfrm>
            <a:off x="0" y="457200"/>
            <a:ext cx="899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dora Framework Service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9" name="Curved Connector 41"/>
          <p:cNvCxnSpPr/>
          <p:nvPr/>
        </p:nvCxnSpPr>
        <p:spPr>
          <a:xfrm flipH="1" rot="16200000">
            <a:off x="4798800" y="3028320"/>
            <a:ext cx="724680" cy="152496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0" name="Rounded Rectangle 43"/>
          <p:cNvSpPr/>
          <p:nvPr/>
        </p:nvSpPr>
        <p:spPr>
          <a:xfrm>
            <a:off x="5943600" y="4876920"/>
            <a:ext cx="1066680" cy="53316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or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Box 37"/>
          <p:cNvSpPr/>
          <p:nvPr/>
        </p:nvSpPr>
        <p:spPr>
          <a:xfrm>
            <a:off x="744120" y="47196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ository publishes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Box 38"/>
          <p:cNvSpPr/>
          <p:nvPr/>
        </p:nvSpPr>
        <p:spPr>
          <a:xfrm>
            <a:off x="7243200" y="1828800"/>
            <a:ext cx="140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sten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ents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3" name="Elbow Connector 45"/>
          <p:cNvCxnSpPr/>
          <p:nvPr/>
        </p:nvCxnSpPr>
        <p:spPr>
          <a:xfrm flipV="1">
            <a:off x="2971440" y="3161880"/>
            <a:ext cx="89460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rrent Work… early seeds for DuraCloud concep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62"/>
          <p:cNvGrpSpPr/>
          <p:nvPr/>
        </p:nvGrpSpPr>
        <p:grpSpPr>
          <a:xfrm>
            <a:off x="3047760" y="3048120"/>
            <a:ext cx="2972160" cy="1523520"/>
            <a:chOff x="3047760" y="3048120"/>
            <a:chExt cx="2972160" cy="1523520"/>
          </a:xfrm>
        </p:grpSpPr>
        <p:sp>
          <p:nvSpPr>
            <p:cNvPr id="316" name="Rectangle 55"/>
            <p:cNvSpPr/>
            <p:nvPr/>
          </p:nvSpPr>
          <p:spPr>
            <a:xfrm>
              <a:off x="3048120" y="3048120"/>
              <a:ext cx="2971800" cy="938160"/>
            </a:xfrm>
            <a:prstGeom prst="rect">
              <a:avLst/>
            </a:prstGeom>
            <a:solidFill>
              <a:srgbClr val="adadff"/>
            </a:solidFill>
            <a:ln w="25560">
              <a:solidFill>
                <a:srgbClr val="7e7e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Sha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Storage Abstrac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ound Same Side Corner Rectangle 56"/>
            <p:cNvSpPr/>
            <p:nvPr/>
          </p:nvSpPr>
          <p:spPr>
            <a:xfrm rot="10800000">
              <a:off x="3047760" y="3985920"/>
              <a:ext cx="990360" cy="585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da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Round Same Side Corner Rectangle 57"/>
            <p:cNvSpPr/>
            <p:nvPr/>
          </p:nvSpPr>
          <p:spPr>
            <a:xfrm rot="10800000">
              <a:off x="4038120" y="3985920"/>
              <a:ext cx="990360" cy="585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da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ound Same Side Corner Rectangle 58"/>
            <p:cNvSpPr/>
            <p:nvPr/>
          </p:nvSpPr>
          <p:spPr>
            <a:xfrm rot="10800000">
              <a:off x="5028840" y="3985920"/>
              <a:ext cx="990360" cy="585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da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Box 59"/>
            <p:cNvSpPr/>
            <p:nvPr/>
          </p:nvSpPr>
          <p:spPr>
            <a:xfrm>
              <a:off x="3048120" y="398592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  <a:ea typeface="Arial"/>
                </a:rPr>
                <a:t>Plug-in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TextBox 60"/>
            <p:cNvSpPr/>
            <p:nvPr/>
          </p:nvSpPr>
          <p:spPr>
            <a:xfrm>
              <a:off x="4038480" y="398592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  <a:ea typeface="Arial"/>
                </a:rPr>
                <a:t>Plug-in 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Box 61"/>
            <p:cNvSpPr/>
            <p:nvPr/>
          </p:nvSpPr>
          <p:spPr>
            <a:xfrm>
              <a:off x="4946760" y="398592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  <a:ea typeface="Arial"/>
                </a:rPr>
                <a:t>Plug-in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Cloud Callout 54"/>
          <p:cNvSpPr/>
          <p:nvPr/>
        </p:nvSpPr>
        <p:spPr>
          <a:xfrm>
            <a:off x="1447920" y="5257800"/>
            <a:ext cx="1904760" cy="1143000"/>
          </a:xfrm>
          <a:prstGeom prst="cloudCallout">
            <a:avLst>
              <a:gd name="adj1" fmla="val 50083"/>
              <a:gd name="adj2" fmla="val -8483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Amaz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Cloud Callout 42"/>
          <p:cNvSpPr/>
          <p:nvPr/>
        </p:nvSpPr>
        <p:spPr>
          <a:xfrm>
            <a:off x="5867280" y="5105520"/>
            <a:ext cx="2819520" cy="1371600"/>
          </a:xfrm>
          <a:prstGeom prst="cloudCallout">
            <a:avLst>
              <a:gd name="adj1" fmla="val -53768"/>
              <a:gd name="adj2" fmla="val -8037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University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SAN/Fab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Cloud Callout 59"/>
          <p:cNvSpPr/>
          <p:nvPr/>
        </p:nvSpPr>
        <p:spPr>
          <a:xfrm>
            <a:off x="3657600" y="5105520"/>
            <a:ext cx="1981080" cy="1371600"/>
          </a:xfrm>
          <a:prstGeom prst="cloudCallout">
            <a:avLst>
              <a:gd name="adj1" fmla="val -2032"/>
              <a:gd name="adj2" fmla="val -8557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alibri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Picture 61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1447920" cy="1816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5" descr="logo_vert_color.gif"/>
          <p:cNvPicPr/>
          <p:nvPr/>
        </p:nvPicPr>
        <p:blipFill>
          <a:blip r:embed="rId2"/>
          <a:stretch/>
        </p:blipFill>
        <p:spPr>
          <a:xfrm>
            <a:off x="4648320" y="1219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aCloud  - basic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77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icate to multiple storag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icate to multiple geographic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and audit digital as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services in cloud next to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ted by DuraSpace not-for-profit 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ships with cloud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for use” for services and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0"/>
          <p:cNvSpPr/>
          <p:nvPr/>
        </p:nvSpPr>
        <p:spPr>
          <a:xfrm>
            <a:off x="4952880" y="1600200"/>
            <a:ext cx="380232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61280" y="1365120"/>
            <a:ext cx="4443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Scholarly and Scientific Coll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30840" y="4114800"/>
            <a:ext cx="3540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reservation and Arch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962960" y="4719600"/>
            <a:ext cx="3921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Education,  Knowledge Sp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world we work in…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62720" y="1143000"/>
            <a:ext cx="448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ata Curation, Linking, Publis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8" descr="j0199727"/>
          <p:cNvPicPr/>
          <p:nvPr/>
        </p:nvPicPr>
        <p:blipFill>
          <a:blip r:embed="rId1"/>
          <a:stretch/>
        </p:blipFill>
        <p:spPr>
          <a:xfrm>
            <a:off x="476280" y="1836720"/>
            <a:ext cx="1073160" cy="10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0292020"/>
          <p:cNvPicPr/>
          <p:nvPr/>
        </p:nvPicPr>
        <p:blipFill>
          <a:blip r:embed="rId2"/>
          <a:stretch/>
        </p:blipFill>
        <p:spPr>
          <a:xfrm>
            <a:off x="503280" y="4586400"/>
            <a:ext cx="1233360" cy="1171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3"/>
          <p:cNvSpPr/>
          <p:nvPr/>
        </p:nvSpPr>
        <p:spPr>
          <a:xfrm>
            <a:off x="2230560" y="4678200"/>
            <a:ext cx="1266840" cy="1055880"/>
          </a:xfrm>
          <a:prstGeom prst="can">
            <a:avLst>
              <a:gd name="adj" fmla="val 31847"/>
            </a:avLst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14" descr="logo"/>
          <p:cNvPicPr/>
          <p:nvPr/>
        </p:nvPicPr>
        <p:blipFill>
          <a:blip r:embed="rId3"/>
          <a:stretch/>
        </p:blipFill>
        <p:spPr>
          <a:xfrm>
            <a:off x="2544840" y="5095800"/>
            <a:ext cx="669960" cy="479520"/>
          </a:xfrm>
          <a:prstGeom prst="rect">
            <a:avLst/>
          </a:prstGeom>
          <a:ln w="0">
            <a:noFill/>
          </a:ln>
        </p:spPr>
      </p:pic>
      <p:sp>
        <p:nvSpPr>
          <p:cNvPr id="55" name="Line 15"/>
          <p:cNvSpPr/>
          <p:nvPr/>
        </p:nvSpPr>
        <p:spPr>
          <a:xfrm>
            <a:off x="1674720" y="5181480"/>
            <a:ext cx="538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9" descr="lesson-plan"/>
          <p:cNvPicPr/>
          <p:nvPr/>
        </p:nvPicPr>
        <p:blipFill>
          <a:blip r:embed="rId4"/>
          <a:stretch/>
        </p:blipFill>
        <p:spPr>
          <a:xfrm>
            <a:off x="5925960" y="5235480"/>
            <a:ext cx="1349640" cy="101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children"/>
          <p:cNvPicPr/>
          <p:nvPr/>
        </p:nvPicPr>
        <p:blipFill>
          <a:blip r:embed="rId5"/>
          <a:stretch/>
        </p:blipFill>
        <p:spPr>
          <a:xfrm>
            <a:off x="7418520" y="5168880"/>
            <a:ext cx="1268280" cy="10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egypt"/>
          <p:cNvPicPr/>
          <p:nvPr/>
        </p:nvPicPr>
        <p:blipFill>
          <a:blip r:embed="rId6"/>
          <a:stretch/>
        </p:blipFill>
        <p:spPr>
          <a:xfrm>
            <a:off x="5021280" y="5130720"/>
            <a:ext cx="814320" cy="111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3"/>
          <p:cNvSpPr/>
          <p:nvPr/>
        </p:nvSpPr>
        <p:spPr>
          <a:xfrm>
            <a:off x="183960" y="5589720"/>
            <a:ext cx="1841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log and wi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26" descr=""/>
          <p:cNvPicPr/>
          <p:nvPr/>
        </p:nvPicPr>
        <p:blipFill>
          <a:blip r:embed="rId7"/>
          <a:stretch/>
        </p:blipFill>
        <p:spPr>
          <a:xfrm>
            <a:off x="1295280" y="1917720"/>
            <a:ext cx="2295720" cy="1670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612240" y="6396120"/>
            <a:ext cx="166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and more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Group 18" descr=""/>
          <p:cNvPicPr/>
          <p:nvPr/>
        </p:nvPicPr>
        <p:blipFill>
          <a:blip r:embed="rId8"/>
          <a:stretch/>
        </p:blipFill>
        <p:spPr>
          <a:xfrm>
            <a:off x="5016600" y="1657440"/>
            <a:ext cx="37432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aClou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2972520" y="762120"/>
            <a:ext cx="48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Trusted management of and access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durable digital assets in the clo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eft Brace 4"/>
          <p:cNvSpPr/>
          <p:nvPr/>
        </p:nvSpPr>
        <p:spPr>
          <a:xfrm>
            <a:off x="1371600" y="3124080"/>
            <a:ext cx="304920" cy="1295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295640"/>
              <a:gd name="textAreaBottom" fmla="*/ 12877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4320" y="3276720"/>
            <a:ext cx="11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ura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dia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12"/>
          <p:cNvGrpSpPr/>
          <p:nvPr/>
        </p:nvGrpSpPr>
        <p:grpSpPr>
          <a:xfrm>
            <a:off x="1676520" y="1447920"/>
            <a:ext cx="7086600" cy="5470560"/>
            <a:chOff x="1676520" y="1447920"/>
            <a:chExt cx="7086600" cy="5470560"/>
          </a:xfrm>
        </p:grpSpPr>
        <p:graphicFrame>
          <p:nvGraphicFramePr>
            <p:cNvPr id="335" name="Object 2"/>
            <p:cNvGraphicFramePr/>
            <p:nvPr/>
          </p:nvGraphicFramePr>
          <p:xfrm>
            <a:off x="1676520" y="1447920"/>
            <a:ext cx="7086600" cy="5470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3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447920"/>
                      <a:ext cx="7086600" cy="547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Cloud Callout 7"/>
            <p:cNvSpPr/>
            <p:nvPr/>
          </p:nvSpPr>
          <p:spPr>
            <a:xfrm>
              <a:off x="2514600" y="5410440"/>
              <a:ext cx="1066680" cy="838080"/>
            </a:xfrm>
            <a:prstGeom prst="cloudCallout">
              <a:avLst>
                <a:gd name="adj1" fmla="val -9962"/>
                <a:gd name="adj2" fmla="val 49958"/>
              </a:avLst>
            </a:prstGeom>
            <a:solidFill>
              <a:srgbClr val="ecf8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Su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Cloud Callout 8"/>
            <p:cNvSpPr/>
            <p:nvPr/>
          </p:nvSpPr>
          <p:spPr>
            <a:xfrm>
              <a:off x="4953240" y="4572000"/>
              <a:ext cx="1066680" cy="838080"/>
            </a:xfrm>
            <a:prstGeom prst="cloudCallout">
              <a:avLst>
                <a:gd name="adj1" fmla="val -9962"/>
                <a:gd name="adj2" fmla="val 49958"/>
              </a:avLst>
            </a:prstGeom>
            <a:solidFill>
              <a:srgbClr val="ecf8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EM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Cloud Callout 9"/>
            <p:cNvSpPr/>
            <p:nvPr/>
          </p:nvSpPr>
          <p:spPr>
            <a:xfrm>
              <a:off x="1905120" y="4572000"/>
              <a:ext cx="1295280" cy="838080"/>
            </a:xfrm>
            <a:prstGeom prst="cloudCallout">
              <a:avLst>
                <a:gd name="adj1" fmla="val -9962"/>
                <a:gd name="adj2" fmla="val 49958"/>
              </a:avLst>
            </a:prstGeom>
            <a:solidFill>
              <a:srgbClr val="ecf8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Amaz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Cloud Callout 10"/>
            <p:cNvSpPr/>
            <p:nvPr/>
          </p:nvSpPr>
          <p:spPr>
            <a:xfrm>
              <a:off x="3809880" y="5410440"/>
              <a:ext cx="1295280" cy="838080"/>
            </a:xfrm>
            <a:prstGeom prst="cloudCallout">
              <a:avLst>
                <a:gd name="adj1" fmla="val -9962"/>
                <a:gd name="adj2" fmla="val 49958"/>
              </a:avLst>
            </a:prstGeom>
            <a:solidFill>
              <a:srgbClr val="ecf8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TextBox 11"/>
          <p:cNvSpPr/>
          <p:nvPr/>
        </p:nvSpPr>
        <p:spPr>
          <a:xfrm>
            <a:off x="3971160" y="563868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3"/>
          <p:cNvSpPr/>
          <p:nvPr/>
        </p:nvSpPr>
        <p:spPr>
          <a:xfrm>
            <a:off x="762120" y="2362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ttp://www.duraspace.org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ttp://www.fedora-commons.org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xampl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xt, images on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t and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antitativ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ggregation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uraSpace Produc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d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kubra – storage plug-in module with tranactional fil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gara – RDF index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paz – core semantic knowledgebase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aClou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lution Communi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unity group that creates and maintains the vision for solution bundle in an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thers resources to create software for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rdinates development with DuraSpace technical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maller group that gets things done will eme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lution Area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C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 Access Publi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gr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rvation and Archiv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mall Arch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lars’ Workbe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ther Possible Community Group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software development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s and Publications Outreach group that works with our Communications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sue/advocacy groups that work on standards important to the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Flexible Extensible Digital Object Repository Architect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et of abstractions that can be used to represent different kind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repository managem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foundation for many information management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ed to make data “durable” over the long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65 Current Known Use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Broadcasting and media – 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nsortia – 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rporations – 1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overnment agencies – 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T- Related Institutions – 1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dical Centers and Libraries – 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useums and Cultural Organizations – 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ational Libraries and Archives – 1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fessional Societies – 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ublishing - 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earch Groups and Projects – 1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emantic and Virtual Library Projects - 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niversity Libraries and Archives - 6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23:20:33Z</dcterms:created>
  <dc:creator>Thorny</dc:creator>
  <dc:description/>
  <dc:language>en-US</dc:language>
  <cp:lastModifiedBy> </cp:lastModifiedBy>
  <dcterms:modified xsi:type="dcterms:W3CDTF">2009-07-07T15:17:50Z</dcterms:modified>
  <cp:revision>220</cp:revision>
  <dc:subject/>
  <dc:title>The Supporting Digital Scholarship Project</dc:title>
</cp:coreProperties>
</file>